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2E2-241F-44EB-9D36-E6F8EEAB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8D5-752A-4394-ADE2-B486DE8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681-3F5A-48FA-BBAD-A72EAEEB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FC0-1384-4DD7-A832-8052EEFD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22B-191D-4EF3-B1E3-5119FAB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E20-AE0C-436C-B6CA-8741DFA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B5D-BAC5-4C5B-903B-0163AB6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130-DF3F-407B-8A9A-D5026DE3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9A8-DF50-400D-9E67-E751AB2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431-F656-479A-B3CE-7D4BB5A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58E-D72F-4220-900E-26F8ECB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1B4-AB2C-47A2-8529-4135E82D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10E3-939D-4036-AA02-B1C2C958C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Monotype Corsiva"/>
              </a:rPr>
              <a:t>What is a place in the desert made fertile by a steady supply of wa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228b"/>
                </a:solidFill>
                <a:latin typeface="Stencil"/>
              </a:rPr>
              <a:t>O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t1.gstatic.com/images?q=tbn:ANd9GcQ2BiH-_Qj9xnbbbnBQ2Y0I5AQIrHXMWG_-5uSaor1ts9mn_F6z"/>
          <p:cNvPicPr/>
          <p:nvPr/>
        </p:nvPicPr>
        <p:blipFill>
          <a:blip r:embed="rId2"/>
          <a:stretch/>
        </p:blipFill>
        <p:spPr>
          <a:xfrm>
            <a:off x="228600" y="1676520"/>
            <a:ext cx="6426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What is a series of connected mountain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81480" y="1981080"/>
            <a:ext cx="3276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Broadway"/>
              </a:rPr>
              <a:t>Mountain 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3a11e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11e9"/>
                </a:solidFill>
                <a:latin typeface="Tempus Sans ITC"/>
              </a:rPr>
              <a:t>How is a desert different than an oasis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An oasis has water and a desert has no water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http://t0.gstatic.com/images?q=tbn:ANd9GcSYrfLMva5Ulc-4RhnASMwLv2EpdaMIhQ_n55RIyKoNtzjYHkZswg"/>
          <p:cNvPicPr/>
          <p:nvPr/>
        </p:nvPicPr>
        <p:blipFill>
          <a:blip r:embed="rId1"/>
          <a:stretch/>
        </p:blipFill>
        <p:spPr>
          <a:xfrm>
            <a:off x="4724280" y="3429000"/>
            <a:ext cx="3962520" cy="29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t1.gstatic.com/images?q=tbn:ANd9GcTr8xtQ0LDeSg38m1s4EwowAQmF57FN2tukr_RJICS788O7ieedhw"/>
          <p:cNvPicPr/>
          <p:nvPr/>
        </p:nvPicPr>
        <p:blipFill>
          <a:blip r:embed="rId2"/>
          <a:stretch/>
        </p:blipFill>
        <p:spPr>
          <a:xfrm>
            <a:off x="228600" y="3429000"/>
            <a:ext cx="4114800" cy="2989440"/>
          </a:xfrm>
          <a:prstGeom prst="rect">
            <a:avLst/>
          </a:prstGeom>
          <a:ln w="0">
            <a:noFill/>
          </a:ln>
        </p:spPr>
      </p:pic>
      <p:sp>
        <p:nvSpPr>
          <p:cNvPr id="76" name="Right Arrow 12"/>
          <p:cNvSpPr/>
          <p:nvPr/>
        </p:nvSpPr>
        <p:spPr>
          <a:xfrm flipV="1" rot="172200">
            <a:off x="4727520" y="4807440"/>
            <a:ext cx="988920" cy="17028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What is the difference between an isthmus  and a  stra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1600200" y="2209680"/>
            <a:ext cx="54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11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1e9"/>
                </a:solidFill>
                <a:latin typeface="Rockwell Condensed"/>
              </a:rPr>
              <a:t> </a:t>
            </a:r>
            <a:r>
              <a:rPr b="0" lang="en-US" sz="2800" spc="-1" strike="noStrike">
                <a:solidFill>
                  <a:srgbClr val="3a11e9"/>
                </a:solidFill>
                <a:latin typeface="Rockwell Condensed"/>
              </a:rPr>
              <a:t>An isthmus is a narrow strip of land and a strait is a narrow strip of water connecting two larger bodies of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76320" y="-1054080"/>
            <a:ext cx="210492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76320" y="-1054080"/>
            <a:ext cx="210492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76320" y="-104616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http://www.worldatlas.com/aatlas/infopage/gibrltar.gif"/>
          <p:cNvPicPr/>
          <p:nvPr/>
        </p:nvPicPr>
        <p:blipFill>
          <a:blip r:embed="rId2"/>
          <a:stretch/>
        </p:blipFill>
        <p:spPr>
          <a:xfrm>
            <a:off x="228600" y="3581280"/>
            <a:ext cx="3381480" cy="30006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76320" y="-360360"/>
            <a:ext cx="1190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6" descr="http://i1.trekearth.com/photos/15282/freycinet018.jpg"/>
          <p:cNvPicPr/>
          <p:nvPr/>
        </p:nvPicPr>
        <p:blipFill>
          <a:blip r:embed="rId3"/>
          <a:stretch/>
        </p:blipFill>
        <p:spPr>
          <a:xfrm>
            <a:off x="4343400" y="3581280"/>
            <a:ext cx="440388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Right Arrow 10"/>
          <p:cNvSpPr/>
          <p:nvPr/>
        </p:nvSpPr>
        <p:spPr>
          <a:xfrm rot="11220000">
            <a:off x="2796840" y="4869720"/>
            <a:ext cx="1165320" cy="29052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French Script MT"/>
              </a:rPr>
              <a:t>What is the difference between an oasis and a source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21932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empus Sans ITC"/>
              </a:rPr>
              <a:t>An oasis is a place in the desert made fertile by a supply of water and a source is the place where a river beg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ttp://t1.gstatic.com/images?q=tbn:ANd9GcQ2BiH-_Qj9xnbbbnBQ2Y0I5AQIrHXMWG_-5uSaor1ts9mn_F6z"/>
          <p:cNvPicPr/>
          <p:nvPr/>
        </p:nvPicPr>
        <p:blipFill>
          <a:blip r:embed="rId2"/>
          <a:stretch/>
        </p:blipFill>
        <p:spPr>
          <a:xfrm>
            <a:off x="228600" y="35812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76320" y="-1274760"/>
            <a:ext cx="17431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http://www.forestwaterfalls.com/images/waterfall-23.JPG"/>
          <p:cNvPicPr/>
          <p:nvPr/>
        </p:nvPicPr>
        <p:blipFill>
          <a:blip r:embed="rId3"/>
          <a:stretch/>
        </p:blipFill>
        <p:spPr>
          <a:xfrm>
            <a:off x="4572000" y="3048120"/>
            <a:ext cx="36194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Eras Medium ITC"/>
              </a:rPr>
              <a:t>What is a large area of flat or nearly flat land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Ravie"/>
              </a:rPr>
              <a:t>pl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http://ed101.bu.edu/StudentDoc/current/ED101fa10/hillaryw/Images/plains_landscape.jpg"/>
          <p:cNvPicPr/>
          <p:nvPr/>
        </p:nvPicPr>
        <p:blipFill>
          <a:blip r:embed="rId1"/>
          <a:stretch/>
        </p:blipFill>
        <p:spPr>
          <a:xfrm>
            <a:off x="228600" y="2133720"/>
            <a:ext cx="6019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Bradley Hand ITC"/>
              </a:rPr>
              <a:t>What is a point of land that extends into a river, lake, or ocean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Showcard Gothic"/>
              </a:rPr>
              <a:t>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t3.gstatic.com/images?q=tbn:ANd9GcSo0YF2GTcRZZ5Pd2w3BWS8qyjUD6HyZoiXixL36DpvIPFSlf4RLg"/>
          <p:cNvPicPr/>
          <p:nvPr/>
        </p:nvPicPr>
        <p:blipFill>
          <a:blip r:embed="rId1"/>
          <a:stretch/>
        </p:blipFill>
        <p:spPr>
          <a:xfrm>
            <a:off x="228600" y="2438280"/>
            <a:ext cx="6053040" cy="4033800"/>
          </a:xfrm>
          <a:prstGeom prst="rect">
            <a:avLst/>
          </a:prstGeom>
          <a:ln w="0">
            <a:noFill/>
          </a:ln>
        </p:spPr>
      </p:pic>
      <p:sp>
        <p:nvSpPr>
          <p:cNvPr id="49" name="Down Arrow 5"/>
          <p:cNvSpPr/>
          <p:nvPr/>
        </p:nvSpPr>
        <p:spPr>
          <a:xfrm>
            <a:off x="457200" y="3505320"/>
            <a:ext cx="484200" cy="6728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Double Bracket 7"/>
          <p:cNvSpPr/>
          <p:nvPr/>
        </p:nvSpPr>
        <p:spPr>
          <a:xfrm>
            <a:off x="380880" y="4114800"/>
            <a:ext cx="53352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73"/>
                </a:solidFill>
                <a:latin typeface="Matura MT Script Capitals"/>
              </a:rPr>
              <a:t>What is the place where a river begins??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553080" y="37339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ffd1"/>
                </a:solidFill>
                <a:latin typeface="Stencil"/>
              </a:rPr>
              <a:t>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http://t3.gstatic.com/images?q=tbn:ANd9GcRuuLaxmbpMHAXyGSIy4Igt5ajtz8RuMNg96o8jsWcbonjo2MWX"/>
          <p:cNvPicPr/>
          <p:nvPr/>
        </p:nvPicPr>
        <p:blipFill>
          <a:blip r:embed="rId1"/>
          <a:stretch/>
        </p:blipFill>
        <p:spPr>
          <a:xfrm>
            <a:off x="228600" y="1600200"/>
            <a:ext cx="6324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arrington"/>
              </a:rPr>
              <a:t>What is a mountain created as liquid rock and ash erupt from the inside the earth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990720" y="28954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oudy Stout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5b05"/>
                </a:solidFill>
                <a:latin typeface="Matura MT Script Capitals"/>
              </a:rPr>
              <a:t>What is a high, flat landform that rises steeply above the surrounding land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105520" y="1981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                </a:t>
            </a:r>
            <a:r>
              <a:rPr b="0" lang="en-US" sz="4000" spc="-1" strike="noStrike">
                <a:solidFill>
                  <a:srgbClr val="c00000"/>
                </a:solidFill>
                <a:latin typeface="Showcard Gothic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t2.gstatic.com/images?q=tbn:ANd9GcSjT9uZJ8U-zzceMscBJnpKaddF6gvo3OY9viGG1b2VXPezs2KL"/>
          <p:cNvPicPr/>
          <p:nvPr/>
        </p:nvPicPr>
        <p:blipFill>
          <a:blip r:embed="rId2"/>
          <a:stretch/>
        </p:blipFill>
        <p:spPr>
          <a:xfrm>
            <a:off x="380880" y="2743200"/>
            <a:ext cx="6845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Harrington"/>
              </a:rPr>
              <a:t>Flat, low-lying land built up from soil carried downstream by a river and deposited at its mout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Stencil"/>
              </a:rPr>
              <a:t>De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t0.gstatic.com/images?q=tbn:ANd9GcTcjjrCuzJgiwUcd0TKYLYLUKeXFUZUbtwe5zONcJdCjTn4kf4m"/>
          <p:cNvPicPr/>
          <p:nvPr/>
        </p:nvPicPr>
        <p:blipFill>
          <a:blip r:embed="rId1"/>
          <a:stretch/>
        </p:blipFill>
        <p:spPr>
          <a:xfrm>
            <a:off x="457200" y="2209680"/>
            <a:ext cx="616104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What is a huge sheet of ice that moves slowly across the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477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Glac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"/>
              </a:rPr>
              <a:t>What is a very dry area where few plants grow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howcard Gothic"/>
              </a:rPr>
              <a:t>Des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t3.gstatic.com/images?q=tbn:ANd9GcR5n7NvHDsLiX7-6RYlQnCGA71xGUs0ObaClu_QnosBu7-9-1FfEQ"/>
          <p:cNvPicPr/>
          <p:nvPr/>
        </p:nvPicPr>
        <p:blipFill>
          <a:blip r:embed="rId2"/>
          <a:stretch/>
        </p:blipFill>
        <p:spPr>
          <a:xfrm>
            <a:off x="228600" y="1600200"/>
            <a:ext cx="64771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3:46:42Z</dcterms:modified>
  <cp:revision>57</cp:revision>
  <dc:subject/>
  <dc:title>PowerPoint Presentation</dc:title>
</cp:coreProperties>
</file>